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780-ECAE-480F-8BE1-C58F21A7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BE-685A-424E-88C8-0E31E34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DC0-6A11-44CA-9747-26DA6D7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EBE-4FAA-4A58-AA49-2C1CE73A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DCE1-B238-4182-AA86-07F12438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F8EB-08D8-49BC-A040-70BF022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02A-6B8D-4559-BDF7-8A797CC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D3D1-5805-47D3-9DB1-0B8038AB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57ED-8F84-484A-9B60-88FC9CD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AFB6-F49F-41D3-817D-B21B698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5FAB-7783-4557-B005-FCEEE1C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28A-4607-4E7C-AB99-F8040E8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028B-9027-41D6-BD95-A2B08D8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17F0-3B50-49B1-8FE6-6AC8C5D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43F-A603-4EFC-B5D2-6831E44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7DE-8E18-4935-9B2F-77691E4B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8564-0844-4FDE-B9F3-DDC9FC1C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E97-8AC5-475C-A0B2-07FF04C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B15-DA90-438B-AFF8-2514A7D5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E84-AEB4-4D34-9B24-81884F51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991-AD77-4620-A2B7-BD4FAF9D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5AF-7272-468B-AC25-FE76F80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348-5941-45D4-BC1B-B3019C3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0FD-3C81-4F7A-9801-8BCEBC6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21A-668D-4D56-93B2-1A3D44EDF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67D-AD98-4C4F-A472-C7F54D407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oto.rambler.ru/public/vorotnikov1960/1/22/1-we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ryanskobl.ru/region/law/img/brflag_b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zone-x.ru/66/64313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colibri.ru/photos/2006/138542.gif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tic.obnovlenie.ru/foto/original/4500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dmsel.debryansk.ru/img/mainpic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hrono.ru/heraldicum/russia/subjects/towns/images/selco.gi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xillographia.ru/russia/subjects/towns/images/selco.gif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g-fotki.yandex.ru/get/9/aof40.7/0_650c_35246c9a_X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Картинка 12 из 1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0"/>
            <a:ext cx="5675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Герб России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ртинка 6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0"/>
            <a:ext cx="102106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952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екст Государственного гимна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слова С.В.Михалкова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)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оссия - священная наша держава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оссия - любимая наша страна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Могучая воля, великая слава -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вое достоянье на все времена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 От южных морей до полярного края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Раскинулись наши леса и поля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Одна ты на свете! Одна ты такая -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Хранимая Богом родная земля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 Широкий простор для мечты и для жизни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Грядущие нам открывают года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Нам силу дает наша верность Отчизне.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Так было, так есть и так будет всегда! Славься, Отечество наше свободное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Братских народов союз вековой,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Предками данная мудрость народная!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Славься, страна! Мы гордимся тобой!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162920" cy="51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Флаг России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13 из 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689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1 из 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838080" y="2895480"/>
            <a:ext cx="7620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47520">
                  <a:solidFill>
                    <a:srgbClr val="0000ff"/>
                  </a:solidFill>
                  <a:miter/>
                </a:ln>
                <a:solidFill>
                  <a:srgbClr val="e5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Конституция РФ</a:t>
            </a:r>
            <a:endParaRPr b="1" lang="en-US" sz="4400" spc="1" strike="noStrike">
              <a:ln w="47520">
                <a:solidFill>
                  <a:srgbClr val="0000ff"/>
                </a:solidFill>
                <a:miter/>
              </a:ln>
              <a:solidFill>
                <a:srgbClr val="e5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8 из 104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Картинка 20 из 6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Картинка 1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152280"/>
            <a:ext cx="4495680" cy="6324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Герб г. Сельцо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Картинка 2 из 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-50760"/>
            <a:ext cx="10363320" cy="690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23880" y="4648320"/>
            <a:ext cx="6400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Флаг г. Сельцо</a:t>
            </a:r>
            <a:endParaRPr b="1" lang="en-US" sz="1800" spc="1" strike="noStrike">
              <a:ln w="414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Картинка 1 из 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0"/>
            <a:ext cx="63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14T09:17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